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6.pct" ContentType="image/x-pict"/>
  <Override PartName="/ppt/media/image15.pct" ContentType="image/x-pict"/>
  <Override PartName="/ppt/media/image13.pct" ContentType="image/x-pict"/>
  <Override PartName="/ppt/media/image1.jpeg" ContentType="image/jpeg"/>
  <Override PartName="/ppt/media/image2.pct" ContentType="image/x-pict"/>
  <Override PartName="/ppt/media/image14.pct" ContentType="image/x-pict"/>
  <Override PartName="/ppt/media/image3.png" ContentType="image/png"/>
  <Override PartName="/ppt/media/clap.wav" ContentType="audio/x-wav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CEB8-8BF2-4DE7-8857-12A7C255C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address middle school students with a working knowledge of nouns, pronouns, verbs, adjectives, adverbs, articles and conjunctions as well as an understanding of simple and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-Rule Strategy (Induc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-Rule Strategy (Induc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-Eg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-Eg Strategy (Deduc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210-FF8E-49A1-9B4A-DF22434D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08A-4044-4765-8B61-F3843CAB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8B4-AA07-435D-982A-3F4EE62D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444-26B8-4355-99C5-ED196ED6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8E73-CC4A-48DC-BE54-9F6DB78C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A7E6-9491-4A6B-AF2A-CB876AEF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BE63-038D-4772-8483-7894DAA4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625A-046A-454A-8B09-3B3F1A79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34BE-1A38-4C52-B92C-F8D6BE66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B10E-A2DE-4BEB-A763-4F0D6BFB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B60C-357D-458A-ACA2-D312484E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611B-12E3-47FC-9D37-F5669305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713E-7005-4C36-B8F4-5801A5C9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3E06-2DDD-44A8-95E0-32090530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531D-B820-4820-A1CA-0DD74468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0A77-78A6-4150-A160-48623C5B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1504-CD68-423B-99F0-7D9FF83F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8EB-EBED-479F-B07E-597107B7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A9C-F066-4CC1-88D5-CFC83465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67C-17EA-40A2-99E8-805104BC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AB0-F601-4A48-9F49-556DBC63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D70-F887-455B-9980-6BD9D424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096-B360-45F8-9F68-3272DD59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2C1-1929-443C-94FE-98C9817E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38E3-1E5E-4455-9BAE-78EC628DE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85800" y="1523880"/>
            <a:ext cx="7772400" cy="5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3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1612-2995-40A3-BBA4-95357D65F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6.xml"/><Relationship Id="rId7" Type="http://schemas.openxmlformats.org/officeDocument/2006/relationships/image" Target="../media/image9.pct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0.xml"/><Relationship Id="rId5" Type="http://schemas.openxmlformats.org/officeDocument/2006/relationships/image" Target="../media/image11.pct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9.xml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image" Target="../media/image14.pct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22.xml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6.xml"/><Relationship Id="rId5" Type="http://schemas.openxmlformats.org/officeDocument/2006/relationships/image" Target="../media/image15.pct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25.xml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4.pct"/><Relationship Id="rId4" Type="http://schemas.openxmlformats.org/officeDocument/2006/relationships/slide" Target="slide5.xml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image" Target="../media/image7.pct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PREPOSITION POWER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99840" y="35049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here to star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43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772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Test Your Knowledge 2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133720"/>
            <a:ext cx="6934320" cy="16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word is a preposi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girl by the door is my s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26708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426708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426708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426708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1066680" y="5181480"/>
            <a:ext cx="6782040" cy="4748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eck the list of preposition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781680" y="2057400"/>
            <a:ext cx="1809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RIGHT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7238880" y="5029200"/>
            <a:ext cx="1043280" cy="1042920"/>
          </a:xfrm>
          <a:custGeom>
            <a:avLst/>
            <a:gdLst>
              <a:gd name="textAreaLeft" fmla="*/ 64800 w 1043280"/>
              <a:gd name="textAreaRight" fmla="*/ 978480 w 1043280"/>
              <a:gd name="textAreaTop" fmla="*/ 64800 h 1042920"/>
              <a:gd name="textAreaBottom" fmla="*/ 97812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59" y="1348"/>
                </a:lnTo>
                <a:lnTo>
                  <a:pt x="1348" y="1348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59" y="20252"/>
                </a:lnTo>
                <a:lnTo>
                  <a:pt x="20259" y="1348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348" y="20252"/>
                </a:lnTo>
                <a:lnTo>
                  <a:pt x="20259" y="20252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2"/>
                </a:lnTo>
                <a:close/>
              </a:path>
              <a:path fill="darken" w="21607" h="21600">
                <a:moveTo>
                  <a:pt x="3758" y="3755"/>
                </a:moveTo>
                <a:lnTo>
                  <a:pt x="17849" y="10800"/>
                </a:lnTo>
                <a:lnTo>
                  <a:pt x="3758" y="17845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98108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hings are related to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preposi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ou h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EPOSITION POW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WRONG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2506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here to try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365760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here to check the list of prepositions before trying ag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Test Your Knowledg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209680"/>
            <a:ext cx="6934320" cy="16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word is a preposi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runners raced around the tr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990720" y="426708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2743200" y="426708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4" action="ppaction://hlinksldjump"/>
          </p:cNvPr>
          <p:cNvSpPr/>
          <p:nvPr/>
        </p:nvSpPr>
        <p:spPr>
          <a:xfrm>
            <a:off x="4572000" y="426708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6400800" y="426708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6" action="ppaction://hlinksldjump"/>
          </p:cNvPr>
          <p:cNvSpPr/>
          <p:nvPr/>
        </p:nvSpPr>
        <p:spPr>
          <a:xfrm>
            <a:off x="1066680" y="5181480"/>
            <a:ext cx="6782040" cy="4748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eck the list of preposition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934320" y="1905120"/>
            <a:ext cx="1763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RIGHT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7238880" y="5029200"/>
            <a:ext cx="1043280" cy="1042920"/>
          </a:xfrm>
          <a:custGeom>
            <a:avLst/>
            <a:gdLst>
              <a:gd name="textAreaLeft" fmla="*/ 64800 w 1043280"/>
              <a:gd name="textAreaRight" fmla="*/ 978480 w 1043280"/>
              <a:gd name="textAreaTop" fmla="*/ 64800 h 1042920"/>
              <a:gd name="textAreaBottom" fmla="*/ 97812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59" y="1348"/>
                </a:lnTo>
                <a:lnTo>
                  <a:pt x="1348" y="1348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59" y="20252"/>
                </a:lnTo>
                <a:lnTo>
                  <a:pt x="20259" y="1348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348" y="20252"/>
                </a:lnTo>
                <a:lnTo>
                  <a:pt x="20259" y="20252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2"/>
                </a:lnTo>
                <a:close/>
              </a:path>
              <a:path fill="darken" w="21607" h="21600">
                <a:moveTo>
                  <a:pt x="3758" y="3755"/>
                </a:moveTo>
                <a:lnTo>
                  <a:pt x="17849" y="10800"/>
                </a:lnTo>
                <a:lnTo>
                  <a:pt x="3758" y="17845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98108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hings are related to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preposi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ou h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EPOSITION POW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WRONG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1371600" y="2506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  <a:hlinkClick r:id="rId3" action="ppaction://hlinksldjump"/>
              </a:rPr>
              <a:t>Click here to try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4" action="ppaction://hlinksldjump"/>
          </p:cNvPr>
          <p:cNvSpPr/>
          <p:nvPr/>
        </p:nvSpPr>
        <p:spPr>
          <a:xfrm>
            <a:off x="1295280" y="365760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here to check the list of prepositions before trying ag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2286000"/>
            <a:ext cx="754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look again at the sentences you practic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izza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oven is 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irl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door is my s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nners raced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r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tr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Lesson 2: Prepositional Phrases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7620120" y="5410080"/>
            <a:ext cx="1042920" cy="1043280"/>
          </a:xfrm>
          <a:custGeom>
            <a:avLst/>
            <a:gdLst>
              <a:gd name="textAreaLeft" fmla="*/ 64800 w 1042920"/>
              <a:gd name="textAreaRight" fmla="*/ 978120 w 1042920"/>
              <a:gd name="textAreaTop" fmla="*/ 64800 h 1043280"/>
              <a:gd name="textAreaBottom" fmla="*/ 97848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52" y="20259"/>
                </a:lnTo>
                <a:lnTo>
                  <a:pt x="20252" y="1348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348" y="20259"/>
                </a:lnTo>
                <a:lnTo>
                  <a:pt x="20252" y="20259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9"/>
                </a:lnTo>
                <a:close/>
              </a:path>
              <a:path fill="darken" w="21600" h="21607">
                <a:moveTo>
                  <a:pt x="3755" y="3758"/>
                </a:moveTo>
                <a:lnTo>
                  <a:pt x="17845" y="10804"/>
                </a:lnTo>
                <a:lnTo>
                  <a:pt x="3755" y="17849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Lesson 2: Prepositional Phrases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1981080"/>
            <a:ext cx="5639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o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d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ound the tr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114800"/>
            <a:ext cx="7467480" cy="12366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se are prepositional phrases. Prepositional phrases start with a preposition and end with the object of a preposi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7620120" y="5410080"/>
            <a:ext cx="1042920" cy="1043280"/>
          </a:xfrm>
          <a:custGeom>
            <a:avLst/>
            <a:gdLst>
              <a:gd name="textAreaLeft" fmla="*/ 64800 w 1042920"/>
              <a:gd name="textAreaRight" fmla="*/ 978120 w 1042920"/>
              <a:gd name="textAreaTop" fmla="*/ 64800 h 1043280"/>
              <a:gd name="textAreaBottom" fmla="*/ 97848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52" y="20259"/>
                </a:lnTo>
                <a:lnTo>
                  <a:pt x="20252" y="1348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348" y="20259"/>
                </a:lnTo>
                <a:lnTo>
                  <a:pt x="20252" y="20259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9"/>
                </a:lnTo>
                <a:close/>
              </a:path>
              <a:path fill="darken" w="21600" h="21607">
                <a:moveTo>
                  <a:pt x="3755" y="3758"/>
                </a:moveTo>
                <a:lnTo>
                  <a:pt x="17845" y="10804"/>
                </a:lnTo>
                <a:lnTo>
                  <a:pt x="3755" y="17849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Lesson 3: Object of a Preposition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057400"/>
            <a:ext cx="5257800" cy="201636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object of a preposi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ust be a noun or a pronou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ways comes at the end of a prepositional phr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648320"/>
            <a:ext cx="815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267080"/>
            <a:ext cx="70866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ample: The cookies are </a:t>
            </a: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in the ov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n is a noun that ends the prepositional phrase. Oven is the object of the preposi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629400" y="2057400"/>
            <a:ext cx="2054160" cy="243828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7620120" y="5410080"/>
            <a:ext cx="1042920" cy="1043280"/>
          </a:xfrm>
          <a:custGeom>
            <a:avLst/>
            <a:gdLst>
              <a:gd name="textAreaLeft" fmla="*/ 64800 w 1042920"/>
              <a:gd name="textAreaRight" fmla="*/ 978120 w 1042920"/>
              <a:gd name="textAreaTop" fmla="*/ 64800 h 1043280"/>
              <a:gd name="textAreaBottom" fmla="*/ 97848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52" y="20259"/>
                </a:lnTo>
                <a:lnTo>
                  <a:pt x="20252" y="1348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348" y="20259"/>
                </a:lnTo>
                <a:lnTo>
                  <a:pt x="20252" y="20259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9"/>
                </a:lnTo>
                <a:close/>
              </a:path>
              <a:path fill="darken" w="21600" h="21607">
                <a:moveTo>
                  <a:pt x="3755" y="3758"/>
                </a:moveTo>
                <a:lnTo>
                  <a:pt x="17845" y="10804"/>
                </a:lnTo>
                <a:lnTo>
                  <a:pt x="3755" y="17849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Test Your Knowledge 4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prepositio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at with my m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2666880" y="3809880"/>
            <a:ext cx="259092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at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2666880" y="4648320"/>
            <a:ext cx="259092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4" action="ppaction://hlinksldjump"/>
          </p:cNvPr>
          <p:cNvSpPr/>
          <p:nvPr/>
        </p:nvSpPr>
        <p:spPr>
          <a:xfrm>
            <a:off x="2666880" y="5486400"/>
            <a:ext cx="259092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my m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5410080" y="2133720"/>
            <a:ext cx="2952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1940040"/>
            <a:ext cx="74674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eposition is a part of speech that shows a relationship between two thing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(on, under, 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(before, after, du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ion (from, toward, t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Lesson One: Prepositions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429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4876920"/>
            <a:ext cx="4572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238880" y="5029200"/>
            <a:ext cx="1043280" cy="1042920"/>
          </a:xfrm>
          <a:custGeom>
            <a:avLst/>
            <a:gdLst>
              <a:gd name="textAreaLeft" fmla="*/ 64800 w 1043280"/>
              <a:gd name="textAreaRight" fmla="*/ 978480 w 1043280"/>
              <a:gd name="textAreaTop" fmla="*/ 64800 h 1042920"/>
              <a:gd name="textAreaBottom" fmla="*/ 97812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59" y="1348"/>
                </a:lnTo>
                <a:lnTo>
                  <a:pt x="1348" y="1348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59" y="20252"/>
                </a:lnTo>
                <a:lnTo>
                  <a:pt x="20259" y="1348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348" y="20252"/>
                </a:lnTo>
                <a:lnTo>
                  <a:pt x="20259" y="20252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2"/>
                </a:lnTo>
                <a:close/>
              </a:path>
              <a:path fill="darken" w="21607" h="21600">
                <a:moveTo>
                  <a:pt x="3758" y="3755"/>
                </a:moveTo>
                <a:lnTo>
                  <a:pt x="17849" y="10800"/>
                </a:lnTo>
                <a:lnTo>
                  <a:pt x="3758" y="17845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RIGHT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You found the prepositional phras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391520" y="5181480"/>
            <a:ext cx="1042920" cy="1043280"/>
          </a:xfrm>
          <a:custGeom>
            <a:avLst/>
            <a:gdLst>
              <a:gd name="textAreaLeft" fmla="*/ 64800 w 1042920"/>
              <a:gd name="textAreaRight" fmla="*/ 978120 w 1042920"/>
              <a:gd name="textAreaTop" fmla="*/ 64800 h 1043280"/>
              <a:gd name="textAreaBottom" fmla="*/ 97848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52" y="20259"/>
                </a:lnTo>
                <a:lnTo>
                  <a:pt x="20252" y="1348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348" y="20259"/>
                </a:lnTo>
                <a:lnTo>
                  <a:pt x="20252" y="20259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9"/>
                </a:lnTo>
                <a:close/>
              </a:path>
              <a:path fill="darken" w="21600" h="21607">
                <a:moveTo>
                  <a:pt x="3755" y="3758"/>
                </a:moveTo>
                <a:lnTo>
                  <a:pt x="17845" y="10804"/>
                </a:lnTo>
                <a:lnTo>
                  <a:pt x="3755" y="17849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419720" y="2133720"/>
            <a:ext cx="227160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WRONG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: a prepositional phrase starts with a preposition (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2" action="ppaction://hlinksldjump"/>
              </a:rPr>
              <a:t>check list agai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and ends with a noun or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2362320" y="5257800"/>
            <a:ext cx="4343400" cy="550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y the question again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705720" y="2133720"/>
            <a:ext cx="1746000" cy="2819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Test Your Knowledge 5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prepositional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fter gym class, we got a dr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1905120" y="3809880"/>
            <a:ext cx="396216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gy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3" action="ppaction://hlinksldjump"/>
          </p:cNvPr>
          <p:cNvSpPr/>
          <p:nvPr/>
        </p:nvSpPr>
        <p:spPr>
          <a:xfrm>
            <a:off x="1905120" y="4648320"/>
            <a:ext cx="396216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gym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4" action="ppaction://hlinksldjump"/>
          </p:cNvPr>
          <p:cNvSpPr/>
          <p:nvPr/>
        </p:nvSpPr>
        <p:spPr>
          <a:xfrm>
            <a:off x="1905120" y="5486400"/>
            <a:ext cx="396216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gym class, 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6705720" y="2743200"/>
            <a:ext cx="1676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RIGHT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You found the prepositional phras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391520" y="5181480"/>
            <a:ext cx="1042920" cy="1043280"/>
          </a:xfrm>
          <a:custGeom>
            <a:avLst/>
            <a:gdLst>
              <a:gd name="textAreaLeft" fmla="*/ 64800 w 1042920"/>
              <a:gd name="textAreaRight" fmla="*/ 978120 w 1042920"/>
              <a:gd name="textAreaTop" fmla="*/ 64800 h 1043280"/>
              <a:gd name="textAreaBottom" fmla="*/ 97848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52" y="20259"/>
                </a:lnTo>
                <a:lnTo>
                  <a:pt x="20252" y="1348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348" y="20259"/>
                </a:lnTo>
                <a:lnTo>
                  <a:pt x="20252" y="20259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9"/>
                </a:lnTo>
                <a:close/>
              </a:path>
              <a:path fill="darken" w="21600" h="21607">
                <a:moveTo>
                  <a:pt x="3755" y="3758"/>
                </a:moveTo>
                <a:lnTo>
                  <a:pt x="17845" y="10804"/>
                </a:lnTo>
                <a:lnTo>
                  <a:pt x="3755" y="17849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419720" y="2133720"/>
            <a:ext cx="227160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WRONG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: a prepositional phrase starts with a preposition (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2" action="ppaction://hlinksldjump"/>
              </a:rPr>
              <a:t>check list agai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and ends with a noun or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2362320" y="5257800"/>
            <a:ext cx="4343400" cy="550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y the question again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6705720" y="2133720"/>
            <a:ext cx="1746000" cy="2819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Test Your Knowledge 6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prepositional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chose a book from the libr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2666880" y="3809880"/>
            <a:ext cx="396252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se a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2666880" y="4648320"/>
            <a:ext cx="396252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k from the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4" action="ppaction://hlinksldjump"/>
          </p:cNvPr>
          <p:cNvSpPr/>
          <p:nvPr/>
        </p:nvSpPr>
        <p:spPr>
          <a:xfrm>
            <a:off x="2666880" y="5486400"/>
            <a:ext cx="396252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6858000" y="1905120"/>
            <a:ext cx="1785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RIGHT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You found the prepositional phras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391520" y="5181480"/>
            <a:ext cx="1042920" cy="1043280"/>
          </a:xfrm>
          <a:custGeom>
            <a:avLst/>
            <a:gdLst>
              <a:gd name="textAreaLeft" fmla="*/ 64800 w 1042920"/>
              <a:gd name="textAreaRight" fmla="*/ 978120 w 1042920"/>
              <a:gd name="textAreaTop" fmla="*/ 64800 h 1043280"/>
              <a:gd name="textAreaBottom" fmla="*/ 97848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52" y="20259"/>
                </a:lnTo>
                <a:lnTo>
                  <a:pt x="20252" y="1348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348" y="20259"/>
                </a:lnTo>
                <a:lnTo>
                  <a:pt x="20252" y="20259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9"/>
                </a:lnTo>
                <a:close/>
              </a:path>
              <a:path fill="darken" w="21600" h="21607">
                <a:moveTo>
                  <a:pt x="3755" y="3758"/>
                </a:moveTo>
                <a:lnTo>
                  <a:pt x="17845" y="10804"/>
                </a:lnTo>
                <a:lnTo>
                  <a:pt x="3755" y="17849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419720" y="2133720"/>
            <a:ext cx="227160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WRONG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: a prepositional phrase starts with a preposition (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2" action="ppaction://hlinksldjump"/>
              </a:rPr>
              <a:t>check list agai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and ends with a noun or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2362320" y="5257800"/>
            <a:ext cx="4343400" cy="550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y the question again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6705720" y="2133720"/>
            <a:ext cx="1746000" cy="2819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99"/>
                </a:solidFill>
                <a:latin typeface="Times New Roman"/>
              </a:rPr>
              <a:t>CONGRATULATIONS!</a:t>
            </a:r>
            <a:endParaRPr b="0" i="1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’ve shown your PREPOSITION POWE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endshow"/>
          </p:cNvPr>
          <p:cNvSpPr/>
          <p:nvPr/>
        </p:nvSpPr>
        <p:spPr>
          <a:xfrm>
            <a:off x="2133720" y="5334120"/>
            <a:ext cx="2438280" cy="5799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726160" y="1905120"/>
            <a:ext cx="315108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Lesson One: Prepositions (cont.)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286000"/>
            <a:ext cx="480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1120" y="2514600"/>
            <a:ext cx="44406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use is 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wo things: mouse + tab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lationship: one is 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he oth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n is a preposi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581280"/>
            <a:ext cx="19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638680" y="2590920"/>
            <a:ext cx="2133720" cy="2625120"/>
            <a:chOff x="5638680" y="2590920"/>
            <a:chExt cx="2133720" cy="26251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715000" y="3200040"/>
              <a:ext cx="20574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5638680" y="2590920"/>
              <a:ext cx="1820880" cy="147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1042920" cy="1042920"/>
          </a:xfrm>
          <a:custGeom>
            <a:avLst/>
            <a:gdLst>
              <a:gd name="textAreaLeft" fmla="*/ 64800 w 1042920"/>
              <a:gd name="textAreaRight" fmla="*/ 978120 w 1042920"/>
              <a:gd name="textAreaTop" fmla="*/ 64800 h 1042920"/>
              <a:gd name="textAreaBottom" fmla="*/ 97812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2" y="20252"/>
                </a:lnTo>
                <a:lnTo>
                  <a:pt x="20252" y="134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48" y="20252"/>
                </a:lnTo>
                <a:lnTo>
                  <a:pt x="20252" y="2025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2"/>
                </a:lnTo>
                <a:close/>
              </a:path>
              <a:path fill="darken" w="21600" h="21600">
                <a:moveTo>
                  <a:pt x="3755" y="3755"/>
                </a:moveTo>
                <a:lnTo>
                  <a:pt x="17845" y="10800"/>
                </a:lnTo>
                <a:lnTo>
                  <a:pt x="3755" y="17845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Lesson One: Prepositions (cont.)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362320"/>
            <a:ext cx="5105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514600"/>
            <a:ext cx="50292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use is 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unde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wo things: mouse + tab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lationship: one is 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und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he oth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Under is a preposi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3505320"/>
            <a:ext cx="23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867280" y="3809880"/>
            <a:ext cx="1897200" cy="1541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10080" y="2514600"/>
            <a:ext cx="2895840" cy="28386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4800 w 1043280"/>
              <a:gd name="textAreaRight" fmla="*/ 978480 w 1043280"/>
              <a:gd name="textAreaTop" fmla="*/ 64800 h 1042920"/>
              <a:gd name="textAreaBottom" fmla="*/ 97812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59" y="1348"/>
                </a:lnTo>
                <a:lnTo>
                  <a:pt x="1348" y="1348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59" y="20252"/>
                </a:lnTo>
                <a:lnTo>
                  <a:pt x="20259" y="1348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348" y="20252"/>
                </a:lnTo>
                <a:lnTo>
                  <a:pt x="20259" y="20252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2"/>
                </a:lnTo>
                <a:close/>
              </a:path>
              <a:path fill="darken" w="21607" h="21600">
                <a:moveTo>
                  <a:pt x="3758" y="3755"/>
                </a:moveTo>
                <a:lnTo>
                  <a:pt x="17849" y="10800"/>
                </a:lnTo>
                <a:lnTo>
                  <a:pt x="3758" y="17845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Lesson One: Prepositions (cont.)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057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list of the most common preposi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5410080"/>
            <a:ext cx="1043280" cy="1043280"/>
          </a:xfrm>
          <a:custGeom>
            <a:avLst/>
            <a:gdLst>
              <a:gd name="textAreaLeft" fmla="*/ 64800 w 1043280"/>
              <a:gd name="textAreaRight" fmla="*/ 978480 w 1043280"/>
              <a:gd name="textAreaTop" fmla="*/ 64800 h 1043280"/>
              <a:gd name="textAreaBottom" fmla="*/ 97848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2" y="20252"/>
                </a:lnTo>
                <a:lnTo>
                  <a:pt x="20252" y="134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48" y="20252"/>
                </a:lnTo>
                <a:lnTo>
                  <a:pt x="20252" y="2025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2"/>
                </a:lnTo>
                <a:close/>
              </a:path>
              <a:path fill="darken" w="21600" h="21600">
                <a:moveTo>
                  <a:pt x="3755" y="3755"/>
                </a:moveTo>
                <a:lnTo>
                  <a:pt x="17845" y="10800"/>
                </a:lnTo>
                <a:lnTo>
                  <a:pt x="3755" y="17845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2819520"/>
          <a:ext cx="6857640" cy="3580920"/>
        </p:xfrm>
        <a:graphic>
          <a:graphicData uri="http://schemas.openxmlformats.org/drawingml/2006/table">
            <a:tbl>
              <a:tblPr/>
              <a:tblGrid>
                <a:gridCol w="857160"/>
                <a:gridCol w="857520"/>
                <a:gridCol w="857160"/>
                <a:gridCol w="857160"/>
                <a:gridCol w="857160"/>
                <a:gridCol w="857160"/>
                <a:gridCol w="857160"/>
                <a:gridCol w="857160"/>
              </a:tblGrid>
              <a:tr h="70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h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 (exce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ou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ro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w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ain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f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2133720"/>
            <a:ext cx="78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re is a list of the most common preposit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Lesson One: Prepositions (cont.)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7848720" y="5638680"/>
            <a:ext cx="1042920" cy="1043280"/>
          </a:xfrm>
          <a:custGeom>
            <a:avLst/>
            <a:gdLst>
              <a:gd name="textAreaLeft" fmla="*/ 64800 w 1042920"/>
              <a:gd name="textAreaRight" fmla="*/ 978120 w 1042920"/>
              <a:gd name="textAreaTop" fmla="*/ 64800 h 1043280"/>
              <a:gd name="textAreaBottom" fmla="*/ 97848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52" y="20259"/>
                </a:lnTo>
                <a:lnTo>
                  <a:pt x="20252" y="1348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348" y="20259"/>
                </a:lnTo>
                <a:lnTo>
                  <a:pt x="20252" y="20259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9"/>
                </a:lnTo>
                <a:close/>
              </a:path>
              <a:path fill="darken" w="21600" h="21607">
                <a:moveTo>
                  <a:pt x="3755" y="3758"/>
                </a:moveTo>
                <a:lnTo>
                  <a:pt x="17845" y="10804"/>
                </a:lnTo>
                <a:lnTo>
                  <a:pt x="3755" y="17849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2819520"/>
          <a:ext cx="6934320" cy="342900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866520"/>
                <a:gridCol w="866880"/>
                <a:gridCol w="866880"/>
                <a:gridCol w="866880"/>
                <a:gridCol w="866520"/>
                <a:gridCol w="866880"/>
              </a:tblGrid>
              <a:tr h="571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h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 (exce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ou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ro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w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ain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f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Test Your Knowledge 1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705720" y="1981080"/>
            <a:ext cx="2181240" cy="2167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2209680"/>
            <a:ext cx="708660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word is a preposi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izza in the oven is 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685800" y="441972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2590920" y="441972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4419720" y="441972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6248520" y="441972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838080" y="5410080"/>
            <a:ext cx="6782040" cy="4748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eck the list of preposition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 rot="20387400">
            <a:off x="228240" y="2438280"/>
            <a:ext cx="17524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RIGHT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98108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hings are related to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preposi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ou h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EPOSITION POW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7238880" y="5029200"/>
            <a:ext cx="1043280" cy="1042920"/>
          </a:xfrm>
          <a:custGeom>
            <a:avLst/>
            <a:gdLst>
              <a:gd name="textAreaLeft" fmla="*/ 64800 w 1043280"/>
              <a:gd name="textAreaRight" fmla="*/ 978480 w 1043280"/>
              <a:gd name="textAreaTop" fmla="*/ 64800 h 1042920"/>
              <a:gd name="textAreaBottom" fmla="*/ 97812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59" y="1348"/>
                </a:lnTo>
                <a:lnTo>
                  <a:pt x="1348" y="1348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59" y="20252"/>
                </a:lnTo>
                <a:lnTo>
                  <a:pt x="20259" y="1348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348" y="20252"/>
                </a:lnTo>
                <a:lnTo>
                  <a:pt x="20259" y="20252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2"/>
                </a:lnTo>
                <a:close/>
              </a:path>
              <a:path fill="darken" w="21607" h="21600">
                <a:moveTo>
                  <a:pt x="3758" y="3755"/>
                </a:moveTo>
                <a:lnTo>
                  <a:pt x="17849" y="10800"/>
                </a:lnTo>
                <a:lnTo>
                  <a:pt x="3758" y="17845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WRONG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2506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  <a:hlinkClick r:id="rId2" action="ppaction://hlinksldjump"/>
              </a:rPr>
              <a:t>Click here to try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1295280" y="36576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  <a:hlinkClick r:id="rId4" action="ppaction://hlinksldjump"/>
              </a:rPr>
              <a:t>Click here to check the list of prepositions before trying ag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23:57:32Z</dcterms:created>
  <dc:creator>Sara Wohltjen</dc:creator>
  <dc:description/>
  <dc:language>en-US</dc:language>
  <cp:lastModifiedBy>Cynthia Konell</cp:lastModifiedBy>
  <cp:lastPrinted>2009-04-22T19:24:48Z</cp:lastPrinted>
  <dcterms:modified xsi:type="dcterms:W3CDTF">2014-11-29T00:26:22Z</dcterms:modified>
  <cp:revision>53</cp:revision>
  <dc:subject/>
  <dc:title>Preposition Power</dc:title>
</cp:coreProperties>
</file>